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on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>
            <a:off x="3313080" y="4082040"/>
            <a:ext cx="2699280" cy="3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 releva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7360" y="54936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onozyt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7T11:15:45Z</dcterms:modified>
  <cp:revision>328</cp:revision>
  <dc:subject/>
  <dc:title>Vorstellung einer Neuheit</dc:title>
</cp:coreProperties>
</file>